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FDD-93CD-414E-9DFA-3EC991F7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1A9-9000-4557-9F88-B71C4EE6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46A5-BA47-489F-B093-338EEF0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755E6-D675-468F-9FDE-D35C4C6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C8713-68AE-497D-9D56-8E858BD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5931A-0D58-4114-B066-6B2BF59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2E864-5B88-42A4-BF8F-CEB5567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59911-AC62-4A91-8DD5-FCF95D7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7AC4E-7453-4AD7-B981-C746EDE5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6069A-6206-4620-8941-CF98ED8A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FA962-F8C4-4F7C-80AD-16320BD0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AE5B3-472B-46D9-8D85-C017DE72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80F-B6B3-4F46-A9F3-1951FD1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251CB-9D64-48FF-A095-D5867B9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9E182-F9D0-4813-975D-4F771C5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AA35A-8F4B-49D1-8E53-219F3499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815D7-52AC-4C17-A28D-7F3AD582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8758C-6E96-4667-8CB0-F8D4BCE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98E5E-2783-437D-96B5-84C78AD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9737-BB8A-4DE9-9C9A-B8C2FE9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FA099-60A6-4F29-BC4A-A717CC9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2A8C1-208D-4F96-8F56-E3076F84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E377F-E697-43F5-87EC-C8CD6FA2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72A-5894-4A02-858D-6341F635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E6BDF-37E0-4873-AB45-5D197398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8B1C-510A-433A-97D4-7BBC57BA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058A3-3C78-4D89-A7CE-1F8D4894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C6B9-EEB6-4118-8E88-28F70B5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43B79-31A3-4E44-8865-96ED4D0E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9E3B8-83BA-417C-A2B0-883C426D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9F86-432F-43B3-BE02-DAE49861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82D2E-D3AA-4D41-939B-C0EA607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B6B3A-4BCF-45AD-BE3D-4708D35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6A24B-880F-49CA-A813-87E3D6F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F02-063D-4617-A2A1-5EB78B9A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6842D-E0F9-4D0A-9507-5C49DF00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1492A-2090-41EF-8E4C-11E8D95A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3D6D9-CD3F-408D-90E5-D63D57CA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A8913-38BD-4B7A-9AE6-EE14DF2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B5ADE-9958-4BC8-A1B1-2A81E1C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54B05-8397-469B-A381-D0B9B2E9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A85A5-D56A-4985-9C6C-0EC3113D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0D145-F0F4-400F-AC97-1DDA3E5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CD730-51B0-4B54-9CC6-42695F1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60BAA-175E-4D4F-9B74-E31B1FA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B69-CDE6-4C4F-939D-B5C2917B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A3BC-9205-471B-A20A-5BC3C24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1535C-4E82-47F0-8CB0-109ECA5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81D5C-3E65-45F2-992C-8FF23FF5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DE9C4-4A57-4861-ACEF-00421FB5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90067-223B-4EFE-89E7-11C438E4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CFD12-320E-4D7B-BBB3-96A8E4DC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D9B23-5E50-46A4-9FAE-F0BE4EE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8E8CC-73EB-4196-90F0-BF0B7AA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21586-0750-4ED8-981E-BBBEC33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BBF7F-7813-4FD8-BFE0-096BD2E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97AE-C132-44DD-84EA-2FFEE8B2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78B62-1B43-4763-A4D8-FD332D1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B29CC-866F-4FE5-8D50-4E1B1BA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71F5F-939F-4636-BFDF-5E0872B1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85351-B43B-47C2-91D1-F900326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52337-5CD9-4B0B-8E62-8647BE6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557AE-8D51-4BAD-AADA-5EA76B9F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5258D-8B7F-4071-B893-970DD66B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7868B-046B-43DA-86C1-D9A15AF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66B25-A702-4240-AE00-077A8C6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DA324-1DE4-4BF6-88AF-B4F4EAD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3D6E-1C39-4F33-822C-3715DE99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81834-E0C7-4EB2-B2A3-0BA51EC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85EB5-00EE-4749-BF14-C4F8E96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D1148-9429-47AD-9FC1-487D81B1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019F3-5C12-49C5-96F2-6FE9A6F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EA87C-E211-421B-8B5D-95A8CCD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AAA41-E912-4A7B-9D5C-64856FFB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4BD40-8CF1-473F-B018-25852499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5F9D5-2F57-46BA-8F18-1272A8F4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AD35F-4EE6-4659-BE17-BDA8027F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FE509-CC66-4966-B04E-2E2F67BB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A3F-7071-4ED5-80FE-BD5D35F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70E72-73AB-4EA0-8E7F-C2B855AD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D43DE-6B41-4EB9-84E9-5BA13C33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7C8A1-8C8C-4254-81A2-295E13F8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CF6E4-C30A-4108-943A-7E79841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43E38-64A2-4E79-9D21-6BEC2E9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28E14-2226-4961-9817-55060B9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B06C4-03FB-4420-8C80-BF8546C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AD856-F955-418F-85D1-58492D4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7AA98-2197-47AB-AF95-2EE75F9D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5C549-1700-4402-ADAA-A151BB56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BFCC-9A3E-443F-9701-F7E3315B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3985A-D7D1-440C-9A3F-BA98D5D5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B444D-3BA0-45B3-A0F1-FC40FEAF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E29D7-583F-4CFF-BBE1-34877463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7EA54-6D66-43F3-A207-CD76839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621CF-0970-4C4A-B02E-A1C2AB43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63B9D-CE75-455F-87DC-D8AE7003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D9500-B28E-4596-B3F1-349FC91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5CBBE-26F0-419C-9941-D251DA7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67B88-D415-42C7-AC0D-7110BAF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6A869-2ABC-48CA-8E16-46C20182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3296-812E-4073-8313-0AFF419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892B5-12D5-48C7-9E2E-D261986A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F1EA7-6CFE-433A-A7B4-377CB3CB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313B1-F863-4376-BEFC-E42AEFBD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9BA25-EF6B-485F-BC09-76928849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6AB4E-ECCA-405C-960F-48A31A4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5E228-CDC5-4E97-B88E-078F939B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00F44-F375-4F3B-92EE-D12786D3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D4DC6-2FDE-4C33-938B-1A63508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A781D-A49C-45B0-AD28-7AA01C2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8AC85-08BC-4437-93E0-7F2F05E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8D-5E87-45F3-BC7E-322984D4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BF11-2032-43C1-9C7E-A493D31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339F9-B9C7-4F31-8805-C8E5FFC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44D96-6531-4AE2-8DEA-6EB6CC5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146E3-A772-4FBA-BE18-3B1DB473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28476-16D2-4476-97E5-1EDF26AC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044D0-4183-406B-957B-BAEBF67A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EC5ED-8ABC-4205-883A-0E5F47BE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7F429-6D7D-4A6C-972C-361C2EC8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71812-6C5F-47CA-9466-1509088D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B23D5-1F29-4C4B-8223-283790C5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3949A-BD23-4A60-B4D3-82A8EB3B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B3E2-5BCB-4892-8C7B-401E1CF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18185-C866-4A10-B59D-A5BFFC3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0747D-0A8C-4D41-891A-14671105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6F6BC-EFF5-4578-BB78-9CD0906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A241F-2EE4-4749-A228-4DF6703F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F0E9F-2856-466B-8C74-47D03D45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25FF6-A623-44F2-8D18-6872DCAF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6FAD5-9B33-4669-8406-57077831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2D45A-CF09-44B1-91D1-F308AB0E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6115B-CB28-4D89-9531-D7504ECF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41C97-6E89-4F30-B52A-4053C92E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737-AEB9-444B-B55F-56C830F6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F9A4F-EA3F-4535-AF65-E077489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FAEDB-88B4-45E1-8ABC-83189E6B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BE98A-5270-4970-82C5-D5102F0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5CF9F-09D0-40C4-90D3-3D7411F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960D1-5632-41FA-BF4A-BDB526D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0D04A-77BF-43F2-8A19-292F885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048C2-2532-4852-AC74-E2AD2DD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3380E-1BB2-4D62-B657-90EF32FC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1FCCA-1281-4F5F-9DB4-B31872F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0BF1C-477B-43A5-8DAC-12EC14A4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533-2D26-40FF-A065-21D40883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0507E-119D-48C4-B9DB-038D35E5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B9B64-178A-4ABA-96F4-41740A39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18E1B-A12E-4DBC-8E40-6A0E00EA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0B82A-D06D-4266-B6A4-04CEF05E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EE789-3863-418E-8BE2-51EEE75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6366D-239A-4967-9A15-F1200A6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D5960-EABE-4DC2-962D-8DD6857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7F138-6D39-4394-AD60-B42583E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4C792-A6E5-4DEC-B707-1BCEBB9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8DD24-1B5B-4569-907B-F3123A90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1EFC-D894-417A-82DE-EE309705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88619-9465-4759-8135-358440BE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CBE8F-BAD7-452C-9428-61FE1567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EA4CA-14D8-4715-84A1-7C12C3E1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2C71F-3163-40F0-97F9-D1EBC98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35FA1-B669-4B47-BEFE-023439A2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B9AB4-AE70-4FA9-9CD3-1186B26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CE9E0-F237-431D-90EC-ECF2631F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573C1-DEBA-4A74-9704-ED3EF7E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52F69-30C2-4B65-8DC7-41D052F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1BD2A-7B72-4689-B19C-81AF7E84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D94E-C453-4E5A-9107-BB9E10D6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CFE227-83AB-46C5-A985-A9E9964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B539CF-C5FF-4F28-85AB-67B7EC44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D94E8-65C2-46E3-AFC3-E70CF305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44F99-CE1F-413A-A6C1-D1DD8768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F430AB-C0C2-4B05-841C-24CA927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70B702-46AB-4541-B75D-70220609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4C2E0B-2AEA-4823-8613-F025404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FF2DC3-41DA-4587-8108-2E0DC9C1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3ECBE7-4BC9-4608-900B-486BD89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F2221-CA7E-43DF-B9FF-58E1CCA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F846-6F03-45D9-933A-897BBE80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2952BB-2F72-4883-9DBF-B697230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1623F-22AE-4783-97C5-2A8F2D2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DD9D0D-8651-4671-AC50-1C7ECD24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42C2AF-3B23-4F71-BBD0-A04444C4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262AFC-312A-408C-BAE3-9E942DF5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76E4FB-25CC-48CB-9450-5D25B58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983DE-7DB2-4E4D-955C-FB6CA54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4B9E9-9BD8-44E5-A95B-B89FFBB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E9F17F-9EFF-4D08-93D3-F7F59F8F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0AB2FF-D640-4F83-A6D9-CB16C9C4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F504-CE88-4D9F-80F5-09864D0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C871B9-0B1F-4DE5-ACB5-E800EBF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8FC756-4ED9-4A91-9A17-08764D30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FDD87-8DDD-4029-B8DC-E98AB25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D7CC1E-83A8-4B94-A728-61DD119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693A90-14ED-4CA4-8FDD-1F68DC73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F37C64-07C6-4BA3-8E30-581EBAD0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927BB8-D0F3-4797-A36D-CEA4DDD8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5D9FC-514A-4D5A-97C5-AD92CD55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C50922-90BF-4FE5-BF86-145A61B9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1C9250-1B99-4BB7-94BE-8B7C4C1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C437-3181-4770-91D5-805D250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1C5A86-D2CC-48E6-94CF-E4C5FBD5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FF54F4-164B-4F15-84E2-7A2045E4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A6F375-2C2B-4EF2-B24E-23E8327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81CDAB-4C3A-41D5-9696-79591D8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C5426D-0E5D-4A03-960D-7F44A0A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75417-7E0F-4BA4-AC5D-9F3203D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21566-56CB-4410-B283-18630BB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3CE271-F265-4078-9108-3E9B396D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DB799-92E7-4446-841B-C65DC414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F2CBD1-F028-43BB-80B8-E894B730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2F0B-B412-43B7-AD53-C68BA21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2E83AC-3EDE-4ECB-BA19-E28F665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7CC1A7-6749-4E8D-80E9-266CEB6B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9CCA95-BE84-4AE4-A039-3F1F7996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A3C4A-FDF6-4C00-B8D6-1F0A80B5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B9192C-CE7F-4E66-887F-9E90F5FF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82B6A5-D761-403C-93EE-5A7EEF6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6D8EEE-DE15-4E48-92A7-5D1456B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56A2A1-2165-4631-B775-AAF3538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BC2282-6E01-4AE6-9412-8CE5D2CF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EE4CC-37E3-45E3-90F1-054AD39A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810-5AE6-42C6-88CA-6D75445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21D1-D5F6-4EBA-8AC1-B60E5C04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08AA74-664F-40D0-A02A-542CDFF0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9791DD-79C5-4C10-AEDE-F5A53561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0A75E0-33B0-4432-A5CC-48440A2A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0BE479-42BF-44CD-BBF9-8862381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26231A-6E8F-43DC-9E7D-AF99F97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C47035-58F7-4389-9782-ED9660BE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7692CB-AA79-4241-8DE1-396E2DC3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C243ED-C848-4954-96CC-596769E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62DD9-1451-43FE-9608-9E2485A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E3EDC3-9E71-49A0-B4DD-32A1520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DDF6-427F-4320-8933-1398EF20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C3A63-7F34-4A97-B814-11240B1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BC2E82-B064-4D02-9241-B419791A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77063B-D995-4B86-88C5-C1245DF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476E78-173B-4BEA-A2B9-78E3EE7F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F4028F-800D-4401-9DB3-F872C1D1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318981-2294-4C92-A95F-C36ED71D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C3BEAA-112C-4AB5-96CC-0D3B21E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E13D39-E196-4AB6-AAD1-41A9D4E6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0EAD6E-9BB1-442B-A710-01D24AE6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4914C4-9E84-4364-9CFE-31FFD35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CF45-81ED-4AB7-A012-A620122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5A09BF-C807-49E7-AD08-314AB2C8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B228A9-AFA8-4B19-9F62-EE72563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1EBD5E-C169-47EC-ACC8-3C74D60F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6DCF30-67E1-4438-B82F-C4516632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380DEB-2745-4DCD-9708-2F7E744A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6248-2391-4E32-A8E8-79D67B3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4116-1352-4BE3-BB5F-EDC09CA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7109-B6E1-47F2-BC74-E2F8F200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23FD-8405-4945-B3E1-6ABA84EE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B42E-2F4F-4C41-89D8-C349A2C5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138E-84CA-4B4A-B6DD-6C0B6EBD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CB9B-3D7F-4720-B134-7AEA3107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7E2-1FF3-48D4-9D81-D8019AB7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910D-D9F4-4C4B-AAF2-1CF34747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12E3-A480-423B-BA76-926A0F54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85E8-3BB9-4545-8911-0F1E2419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EBAB5-EA14-42B2-BFD0-FDE2898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539D-0D71-4E03-B52C-D7D9DF1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EA7A-7AD4-40BE-A18C-060B4B2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7E23-F47E-49F3-A6DA-B45BF92D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00CD6-D057-4ADF-AD2D-F20131E4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FC04-9B1D-4960-8C14-6D666D45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E388-D601-4D02-8552-DC1DFBFB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64E-A35D-412F-897E-FECAF05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2E93-6C55-445C-85F8-BB944494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5AC0-7683-4ABD-BBB9-EA48E87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B785-F390-40F1-83F9-4D4EC26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9870-E2E3-42AD-851A-950477A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44BB-B601-42F7-9AB1-1A11F27B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9D1C-B8C7-4E05-895F-EAFE271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AE58-043A-461B-992D-60E1376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DE6C-0C16-4C5D-9964-3EF1ACD4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0DA2-7DEE-4558-AF32-524E8CA6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2B6D-4A1E-445C-93AF-083E7D25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59E-EBC9-45B3-9663-E151F96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14876-7E9F-4CC3-A280-87A79DB3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E1F79-14B3-44FA-98BB-74D60450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EE63-AD4F-4C00-909E-1BDF4943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D249-5EF5-4041-8AA2-CC56825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AC4D9-BE6D-4D9F-B214-998A05A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4863-6B58-4F4F-8875-E20E7EFC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08A0-52BE-4A13-8EF1-C95F8DF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118AC-DC38-42F9-8A6D-F651820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CBBB-78AF-4747-9CB6-2F61F1B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23176-A537-485D-BC7B-8F5310C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A12-40AD-4BDF-9317-79E3EEF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4B309-E4E1-4D19-A76B-B99EABAA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09DC3-ABB5-4CB0-A249-E044868A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324E-87BA-4644-AE5A-49255D2B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81474-69AE-4BD4-BDCE-797D57E5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D45E-C474-4F3B-8D16-3EDE46E7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2A98A-607B-444B-8C2F-42563833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5120-D3D9-4336-A6A2-D3452628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FB55-AF08-4A71-9EC1-DC7B793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E30D0-5515-41B3-BA65-C606AF54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C3236-35DA-4BA8-A497-029CA9C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DB4-A1E4-46B6-AFC0-3AB4F0E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7EB2-FDB0-4376-8F52-B3B85E9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C629E-124E-442E-87FC-28B6DFA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08FA-BB0D-47D9-B032-DF44AF7C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3D4AF-0091-42E2-A7AA-1A74B0DC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989C4-5DE9-41B9-8DA5-FEFE96D3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29C4-7EB9-49E7-BFEB-A102CC00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B43F-DE21-4627-807C-7C4E40C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ABAEC-70CF-417B-B8D2-F952E023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CD608-CF53-416C-84CC-FB29164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01F5E-4B2C-43AA-B75F-CF19CC0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9EB-44FC-49E9-A737-73826DA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F3CAB-8F39-4F77-A976-421CEEF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0074-F7BF-4588-8F5F-F3C1897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A152-9376-42C1-88EC-7E3BEB0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57F0-3146-444A-854F-F6C8A50E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862E-E8B0-4C20-9BFE-E117E9A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4B0A-0EB7-4CB7-B656-4AD705D7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C779-86C0-4579-9925-362BD3DF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A566A-D59D-4B95-80EC-B79B8C85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0B5AE-C51C-4354-B599-01108BC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9C3AF-4315-4644-A0DD-F13B6BE5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CD80-222D-4546-8F3D-CB60539C65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A611-D97E-491F-BB53-65D923F47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25ED-55C3-4958-8A48-4BF853F54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4046-42B3-4D1C-B5A1-EB817F09F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5AB1-62DD-4E95-B531-B587D7D35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765E-EB7D-498A-B207-0C206F1F3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439C-EA8E-42F1-AE87-76F9097EA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3E8B-18B4-4BEA-ADB4-5D27C5DE1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49C0-0453-4A51-802C-F4F4E4FDE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661-17EE-4909-9CF5-130B3764A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04DC-C757-4F4E-BC01-44E7D3731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6998-540F-416D-9F80-67BF8633AE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8A11-2F5F-4277-9F71-39AF62BE8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90F3-E36D-40C8-BFBC-1D13F76A1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52CB-167F-4A7E-A535-4A5464E5A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5EA-AF50-47AA-9193-825ADC0FA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9570-31B6-4202-8B65-133B07B42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7DB3-24CD-4537-84C8-BA0B42737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67DD-312D-4431-B476-CDAE6B479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9131-DD72-4BDF-BBF3-8FE3D37EE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5C80-637D-4B9F-A231-A1DA4163A3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3385-7CC7-4E3B-99CA-E91AFF8DE1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8DE7-26C3-44F8-AD62-E7FD3D843C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AC2-E919-4615-B3DE-2A1CC55F3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B7E-61B4-4584-935B-88C3AB550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2CA9-8841-4D7A-B49C-9EA0EE354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D9C3-417A-4CB4-888B-A4BDD2D17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image" Target="../media/image11.wmf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63;&#1090;&#1086;%20&#1101;&#1090;&#1086;_&#1088;&#1072;&#1089;&#1089;&#1082;&#1072;&#1078;&#1080;&#1090;&#1077;%20&#1074;&#1072;&#1096;&#1080;&#1084;%20&#1076;&#1077;&#1090;&#1103;&#1084;.wm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09" name="TextBox 3"/>
          <p:cNvSpPr/>
          <p:nvPr/>
        </p:nvSpPr>
        <p:spPr>
          <a:xfrm>
            <a:off x="684360" y="69228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на Забав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еловек на асфальт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4" descr="http://deti-birulevo.3dn.ru/_si/0/90415262.jpg"/>
          <p:cNvPicPr/>
          <p:nvPr/>
        </p:nvPicPr>
        <p:blipFill>
          <a:blip r:embed="rId2"/>
          <a:stretch/>
        </p:blipFill>
        <p:spPr>
          <a:xfrm>
            <a:off x="-15840" y="0"/>
            <a:ext cx="9217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3" descr=""/>
          <p:cNvPicPr/>
          <p:nvPr/>
        </p:nvPicPr>
        <p:blipFill>
          <a:blip r:embed="rId2"/>
          <a:stretch/>
        </p:blipFill>
        <p:spPr>
          <a:xfrm rot="19536600">
            <a:off x="6516720" y="3645000"/>
            <a:ext cx="2008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11574 L -0.3382 -0.28357 E">
                                      <p:cBhvr>
                                        <p:cTn id="98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3328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20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Picture 4" descr=""/>
          <p:cNvPicPr/>
          <p:nvPr/>
        </p:nvPicPr>
        <p:blipFill>
          <a:blip r:embed="rId3"/>
          <a:stretch/>
        </p:blipFill>
        <p:spPr>
          <a:xfrm rot="1387200">
            <a:off x="6803640" y="5013360"/>
            <a:ext cx="194472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4" name="Object 5"/>
          <p:cNvGraphicFramePr/>
          <p:nvPr/>
        </p:nvGraphicFramePr>
        <p:xfrm>
          <a:off x="3348000" y="404640"/>
          <a:ext cx="360036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404640"/>
                    <a:ext cx="3600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6"/>
          <p:cNvGraphicFramePr/>
          <p:nvPr/>
        </p:nvGraphicFramePr>
        <p:xfrm>
          <a:off x="1979640" y="1844640"/>
          <a:ext cx="66672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844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7"/>
          <p:cNvGraphicFramePr/>
          <p:nvPr/>
        </p:nvGraphicFramePr>
        <p:xfrm>
          <a:off x="3419640" y="2781360"/>
          <a:ext cx="666720" cy="113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81360"/>
                    <a:ext cx="6667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Object 8"/>
          <p:cNvGraphicFramePr/>
          <p:nvPr/>
        </p:nvGraphicFramePr>
        <p:xfrm>
          <a:off x="5508720" y="2852640"/>
          <a:ext cx="666720" cy="113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852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9"/>
          <p:cNvGraphicFramePr/>
          <p:nvPr/>
        </p:nvGraphicFramePr>
        <p:xfrm>
          <a:off x="7164360" y="2492280"/>
          <a:ext cx="666720" cy="113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249228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4" name="Picture 10" descr="j0344856"/>
          <p:cNvPicPr/>
          <p:nvPr/>
        </p:nvPicPr>
        <p:blipFill>
          <a:blip r:embed="rId14"/>
          <a:stretch/>
        </p:blipFill>
        <p:spPr>
          <a:xfrm flipH="1" rot="1591800">
            <a:off x="324000" y="836640"/>
            <a:ext cx="1287000" cy="13680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"/>
          <p:cNvPicPr/>
          <p:nvPr/>
        </p:nvPicPr>
        <p:blipFill>
          <a:blip r:embed="rId15"/>
          <a:stretch/>
        </p:blipFill>
        <p:spPr>
          <a:xfrm>
            <a:off x="2050920" y="0"/>
            <a:ext cx="5689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-0.06203 L -0.49202 -0.15648 E">
                                      <p:cBhvr>
                                        <p:cTn id="133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787 L 0.10295 0.41481 E">
                                      <p:cBhvr>
                                        <p:cTn id="176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Rectangle 5"/>
          <p:cNvSpPr/>
          <p:nvPr/>
        </p:nvSpPr>
        <p:spPr>
          <a:xfrm>
            <a:off x="179280" y="247032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11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j0344856"/>
          <p:cNvPicPr/>
          <p:nvPr/>
        </p:nvPicPr>
        <p:blipFill>
          <a:blip r:embed="rId4"/>
          <a:stretch/>
        </p:blipFill>
        <p:spPr>
          <a:xfrm>
            <a:off x="3492360" y="54936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3" descr="j0344856"/>
          <p:cNvPicPr/>
          <p:nvPr/>
        </p:nvPicPr>
        <p:blipFill>
          <a:blip r:embed="rId5"/>
          <a:stretch/>
        </p:blipFill>
        <p:spPr>
          <a:xfrm>
            <a:off x="1258920" y="443700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4" descr="j0344856"/>
          <p:cNvPicPr/>
          <p:nvPr/>
        </p:nvPicPr>
        <p:blipFill>
          <a:blip r:embed="rId6"/>
          <a:stretch/>
        </p:blipFill>
        <p:spPr>
          <a:xfrm>
            <a:off x="4932360" y="4508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5" descr="j0344856"/>
          <p:cNvPicPr/>
          <p:nvPr/>
        </p:nvPicPr>
        <p:blipFill>
          <a:blip r:embed="rId7"/>
          <a:stretch/>
        </p:blipFill>
        <p:spPr>
          <a:xfrm>
            <a:off x="5796000" y="2276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6" descr="j0344856"/>
          <p:cNvPicPr/>
          <p:nvPr/>
        </p:nvPicPr>
        <p:blipFill>
          <a:blip r:embed="rId8"/>
          <a:stretch/>
        </p:blipFill>
        <p:spPr>
          <a:xfrm>
            <a:off x="611280" y="191628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77" name="Прямоугольник 3"/>
          <p:cNvSpPr/>
          <p:nvPr/>
        </p:nvSpPr>
        <p:spPr>
          <a:xfrm>
            <a:off x="2428920" y="765000"/>
            <a:ext cx="58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2" descr="http://wallpaperscraft.ru/image/romashki_cvety_polyana_solnechno_zelen_nebo_leto_34390_1152x864.jpg"/>
          <p:cNvPicPr/>
          <p:nvPr/>
        </p:nvPicPr>
        <p:blipFill>
          <a:blip r:embed="rId2"/>
          <a:stretch/>
        </p:blipFill>
        <p:spPr>
          <a:xfrm>
            <a:off x="-344520" y="-531720"/>
            <a:ext cx="948204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-27000" y="3348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1" name="Прямоугольник 2"/>
          <p:cNvSpPr/>
          <p:nvPr/>
        </p:nvSpPr>
        <p:spPr>
          <a:xfrm>
            <a:off x="34920" y="11160"/>
            <a:ext cx="698508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Земляничная поляна и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араллельной реальности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я чувствую себя 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довлетворён своей работой на уроке пол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Скала, по которой нужн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обраться до замка -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верен, что всё получилось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о буду стар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Классный кабинет 7 "Е"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увствую себя не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ё было сложно, я совсе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ичего не поня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Picture 8" descr="http://www.beesona.ru/upload/403/ec0fe4ef1370fb40f9e248f3abf50898.jpg"/>
          <p:cNvPicPr/>
          <p:nvPr/>
        </p:nvPicPr>
        <p:blipFill>
          <a:blip r:embed="rId2"/>
          <a:stretch/>
        </p:blipFill>
        <p:spPr>
          <a:xfrm>
            <a:off x="5789520" y="22320"/>
            <a:ext cx="3354480" cy="2369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0" descr="http://www.niceimage.ru/pic/201305/1280x800/niceimage.ru-52910.jpg"/>
          <p:cNvPicPr/>
          <p:nvPr/>
        </p:nvPicPr>
        <p:blipFill>
          <a:blip r:embed="rId3"/>
          <a:stretch/>
        </p:blipFill>
        <p:spPr>
          <a:xfrm>
            <a:off x="6066000" y="2508120"/>
            <a:ext cx="3078000" cy="22431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2" descr="http://i9.beon.ru/30/14/2621430/56/101695556/6school_28.jpeg"/>
          <p:cNvPicPr/>
          <p:nvPr/>
        </p:nvPicPr>
        <p:blipFill>
          <a:blip r:embed="rId4"/>
          <a:stretch/>
        </p:blipFill>
        <p:spPr>
          <a:xfrm>
            <a:off x="6167520" y="479736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7" name="Прямоугольник 3"/>
          <p:cNvSpPr/>
          <p:nvPr/>
        </p:nvSpPr>
        <p:spPr>
          <a:xfrm>
            <a:off x="2428920" y="765000"/>
            <a:ext cx="58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Рисунок 3" descr="C:\Users\Дом\Desktop\000000001_3659.jpg"/>
          <p:cNvPicPr/>
          <p:nvPr/>
        </p:nvPicPr>
        <p:blipFill>
          <a:blip r:embed="rId2"/>
          <a:stretch/>
        </p:blipFill>
        <p:spPr>
          <a:xfrm>
            <a:off x="6804000" y="3718080"/>
            <a:ext cx="2316240" cy="3116160"/>
          </a:xfrm>
          <a:prstGeom prst="rect">
            <a:avLst/>
          </a:prstGeom>
          <a:ln w="0">
            <a:noFill/>
          </a:ln>
        </p:spPr>
      </p:pic>
      <p:sp>
        <p:nvSpPr>
          <p:cNvPr id="1189" name="Прямоугольник 2"/>
          <p:cNvSpPr/>
          <p:nvPr/>
        </p:nvSpPr>
        <p:spPr>
          <a:xfrm>
            <a:off x="2268360" y="1674720"/>
            <a:ext cx="639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письмо одному из героев повести (стихи, проза, рисунок, даже музыкальное произве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3" name="Прямоугольник 2"/>
          <p:cNvSpPr/>
          <p:nvPr/>
        </p:nvSpPr>
        <p:spPr>
          <a:xfrm>
            <a:off x="2484360" y="1328760"/>
            <a:ext cx="70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самом главно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3"/>
          <p:cNvSpPr/>
          <p:nvPr/>
        </p:nvSpPr>
        <p:spPr>
          <a:xfrm>
            <a:off x="1619280" y="692280"/>
            <a:ext cx="741672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ое декаб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милосердия в рассказ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 Мурашовой «Класс коррекци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лосердию не достучатьс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тех, у кого души оби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войлоком равнодуш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гений Бага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6" descr="http://ugranow.ru/wp-content/uploads/2015/02/17.02.jpg"/>
          <p:cNvPicPr/>
          <p:nvPr/>
        </p:nvPicPr>
        <p:blipFill>
          <a:blip r:embed="rId1"/>
          <a:stretch/>
        </p:blipFill>
        <p:spPr>
          <a:xfrm>
            <a:off x="0" y="-603360"/>
            <a:ext cx="9312120" cy="77774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5"/>
          <p:cNvSpPr/>
          <p:nvPr/>
        </p:nvSpPr>
        <p:spPr>
          <a:xfrm>
            <a:off x="507672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22" name="Прямоугольник 2"/>
          <p:cNvSpPr/>
          <p:nvPr/>
        </p:nvSpPr>
        <p:spPr>
          <a:xfrm>
            <a:off x="1403280" y="620640"/>
            <a:ext cx="77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лосердие – со-чувствие, со-страдание, способность помогать тем, кто нуждается в помо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70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5" name=""/>
          <p:cNvGraphicFramePr/>
          <p:nvPr/>
        </p:nvGraphicFramePr>
        <p:xfrm>
          <a:off x="2700360" y="765000"/>
          <a:ext cx="6340320" cy="5783400"/>
        </p:xfrm>
        <a:graphic>
          <a:graphicData uri="http://schemas.openxmlformats.org/drawingml/2006/table">
            <a:tbl>
              <a:tblPr/>
              <a:tblGrid>
                <a:gridCol w="5450040"/>
                <a:gridCol w="890280"/>
              </a:tblGrid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ина или лож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ра Мальков учится с ребятами из  7 "Е" с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ного руководителя 7"Е" класса зовут Клавдия Никола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бачок на границе реального и параллельного мира называется "Три ковбо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араллельном мире всегда весна-ле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могли попасть в параллельную реальность независимо от Ю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лизавета Петровна – завуч по воспитатель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 учеников-гимназистов с радостью пригласили Юру Малькова на экскур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олях Мишаниных конспектов был нарисован профиль Сте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 том, что Стеша пропала, Антону сообщила Л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г отыскать Стешу Вад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нце повести класс коррекции реформируют в общеобразовательны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TextBox 5"/>
          <p:cNvSpPr/>
          <p:nvPr/>
        </p:nvSpPr>
        <p:spPr>
          <a:xfrm>
            <a:off x="2556000" y="-1000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-л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9" name="Дорогой добра.mp3" descr=""/>
          <p:cNvPicPr/>
          <p:nvPr/>
        </p:nvPicPr>
        <p:blipFill>
          <a:blip r:embed="rId3"/>
          <a:stretch/>
        </p:blipFill>
        <p:spPr>
          <a:xfrm>
            <a:off x="474840" y="5703840"/>
            <a:ext cx="920520" cy="920880"/>
          </a:xfrm>
          <a:prstGeom prst="rect">
            <a:avLst/>
          </a:prstGeom>
          <a:ln w="0">
            <a:noFill/>
          </a:ln>
        </p:spPr>
      </p:pic>
      <p:sp>
        <p:nvSpPr>
          <p:cNvPr id="1130" name="WordArt 4"/>
          <p:cNvSpPr txBox="1"/>
          <p:nvPr/>
        </p:nvSpPr>
        <p:spPr>
          <a:xfrm rot="201600">
            <a:off x="334440" y="9000"/>
            <a:ext cx="835056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Wooden Ship Decorated"/>
              </a:rPr>
              <a:t>Дорога  доб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31" name="WordArt 5"/>
          <p:cNvSpPr txBox="1"/>
          <p:nvPr/>
        </p:nvSpPr>
        <p:spPr>
          <a:xfrm>
            <a:off x="1908000" y="2637000"/>
            <a:ext cx="539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2" name="WordArt 8"/>
          <p:cNvSpPr txBox="1"/>
          <p:nvPr/>
        </p:nvSpPr>
        <p:spPr>
          <a:xfrm>
            <a:off x="3276720" y="4724280"/>
            <a:ext cx="4916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3" name="Picture 9" descr=""/>
          <p:cNvPicPr/>
          <p:nvPr/>
        </p:nvPicPr>
        <p:blipFill>
          <a:blip r:embed="rId4"/>
          <a:stretch/>
        </p:blipFill>
        <p:spPr>
          <a:xfrm rot="19262400">
            <a:off x="395280" y="3789000"/>
            <a:ext cx="10796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6"/>
          <p:cNvGraphicFramePr/>
          <p:nvPr/>
        </p:nvGraphicFramePr>
        <p:xfrm>
          <a:off x="0" y="0"/>
          <a:ext cx="3305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30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8" descr=""/>
          <p:cNvPicPr/>
          <p:nvPr/>
        </p:nvPicPr>
        <p:blipFill>
          <a:blip r:embed="rId5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9" name="Object 10"/>
          <p:cNvGraphicFramePr/>
          <p:nvPr/>
        </p:nvGraphicFramePr>
        <p:xfrm>
          <a:off x="3733920" y="0"/>
          <a:ext cx="1676160" cy="685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0"/>
                    <a:ext cx="167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1" name="Picture 9" descr="j0344856"/>
          <p:cNvPicPr/>
          <p:nvPr/>
        </p:nvPicPr>
        <p:blipFill>
          <a:blip r:embed="rId8"/>
          <a:stretch/>
        </p:blipFill>
        <p:spPr>
          <a:xfrm>
            <a:off x="7164360" y="479736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6.2963E-006 L -0.48038 6.2963E-006 E">
                                      <p:cBhvr>
                                        <p:cTn id="58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-1.11111E-006 L -0.72448 -0.59838 E">
                                      <p:cBhvr>
                                        <p:cTn id="62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3"/>
          <p:cNvGraphicFramePr/>
          <p:nvPr/>
        </p:nvGraphicFramePr>
        <p:xfrm>
          <a:off x="6372360" y="333360"/>
          <a:ext cx="24922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33360"/>
                    <a:ext cx="2492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6" name="Picture 4" descr="j0344856"/>
          <p:cNvPicPr/>
          <p:nvPr/>
        </p:nvPicPr>
        <p:blipFill>
          <a:blip r:embed="rId5"/>
          <a:stretch/>
        </p:blipFill>
        <p:spPr>
          <a:xfrm>
            <a:off x="7451640" y="4869000"/>
            <a:ext cx="1354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1 0.0331 L -0.65608 0.04352 E">
                                      <p:cBhvr>
                                        <p:cTn id="68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00017 -0.5537 E">
                                      <p:cBhvr>
                                        <p:cTn id="7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-0.00902 L -0.65608 0.57894 E">
                                      <p:cBhvr>
                                        <p:cTn id="76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5537 L -0.6849 -0.5537 E">
                                      <p:cBhvr>
                                        <p:cTn id="80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0.57894 L -0.36458 0.25348 E">
                                      <p:cBhvr>
                                        <p:cTn id="84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8 -0.65856 C -0.21129 -0.65856 -0.06285 -0.4919 -0.06285 -0.28634 C -0.06285 -0.08079 -0.21129 0.08681 -0.39358 0.08681 C -0.57622 0.08681 -0.72431 -0.08079 -0.72431 -0.28634 C -0.72431 -0.4919 -0.57622 -0.65856 -0.39358 -0.65856 Z">
                                      <p:cBhvr>
                                        <p:cTn id="88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7 -0.65856 C -0.21145 -0.65856 -0.06284 -0.48935 -0.06284 -0.28056 C -0.06284 -0.07222 -0.21145 0.09745 -0.39357 0.09745 C -0.57604 0.09745 -0.7243 -0.07222 -0.7243 -0.28056 C -0.7243 -0.48935 -0.57604 -0.65856 -0.39357 -0.65856 Z">
                                      <p:cBhvr>
                                        <p:cTn id="9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7-02-02T11:28:26Z</dcterms:modified>
  <cp:revision>568</cp:revision>
  <dc:subject/>
  <dc:title>Diapositiva 1</dc:title>
</cp:coreProperties>
</file>